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5.png" ContentType="image/pn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68020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0936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85104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268020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450936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68020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0936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104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68020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50936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268020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0936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5104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268020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450936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268020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0936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5104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268020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450936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268020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0936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85104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268020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450936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268020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0936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85104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268020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450936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268020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0936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85104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268020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450936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68020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0936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5104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68020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0936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8020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0936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5104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68020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50936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68020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0936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85104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268020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450936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268020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0936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85104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268020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450936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68020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0936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5104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268020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450936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68020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0936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85104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268020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450936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850680" y="838080"/>
            <a:ext cx="1130292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51040" y="6072120"/>
            <a:ext cx="54100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623400" y="275544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5104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3623400" y="6072120"/>
            <a:ext cx="26398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68020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09360" y="275544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85104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68020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4509360" y="6072120"/>
            <a:ext cx="1741680" cy="302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2463480"/>
            <a:ext cx="10769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7440" y="5041800"/>
            <a:ext cx="1076976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Click to edit the outline text format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1" marL="88920" indent="-88920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econd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2" marL="88920" indent="-88920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Third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3" marL="88920" indent="-88920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Four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4" marL="88920" indent="-88920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Fif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5" marL="88920" indent="-88920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ix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6" marL="88920" indent="-88920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even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grpSp>
        <p:nvGrpSpPr>
          <p:cNvPr id="2" name="Group 6"/>
          <p:cNvGrpSpPr/>
          <p:nvPr/>
        </p:nvGrpSpPr>
        <p:grpSpPr>
          <a:xfrm>
            <a:off x="1498680" y="4838760"/>
            <a:ext cx="10007280" cy="88560"/>
            <a:chOff x="1498680" y="4838760"/>
            <a:chExt cx="10007280" cy="88560"/>
          </a:xfrm>
        </p:grpSpPr>
        <p:pic>
          <p:nvPicPr>
            <p:cNvPr id="3" name="Picture 3" descr=""/>
            <p:cNvPicPr/>
            <p:nvPr/>
          </p:nvPicPr>
          <p:blipFill>
            <a:blip r:embed="rId3"/>
            <a:stretch/>
          </p:blipFill>
          <p:spPr>
            <a:xfrm>
              <a:off x="1498680" y="4882320"/>
              <a:ext cx="4863960" cy="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4" descr=""/>
            <p:cNvPicPr/>
            <p:nvPr/>
          </p:nvPicPr>
          <p:blipFill>
            <a:blip r:embed="rId4"/>
            <a:stretch/>
          </p:blipFill>
          <p:spPr>
            <a:xfrm rot="10800000">
              <a:off x="6642000" y="4882320"/>
              <a:ext cx="4863960" cy="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5" descr=""/>
            <p:cNvPicPr/>
            <p:nvPr/>
          </p:nvPicPr>
          <p:blipFill>
            <a:blip r:embed="rId5"/>
            <a:stretch/>
          </p:blipFill>
          <p:spPr>
            <a:xfrm>
              <a:off x="6350040" y="4838760"/>
              <a:ext cx="270000" cy="885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850680" y="837720"/>
            <a:ext cx="11302920" cy="807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0000"/>
          </a:bodyPr>
          <a:p>
            <a:pPr marL="38592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1" marL="70092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2" marL="105660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3" marL="141228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4" marL="176760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5" marL="176760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  <a:p>
            <a:pPr lvl="6" marL="1767600" indent="-385920">
              <a:lnSpc>
                <a:spcPct val="120000"/>
              </a:lnSpc>
              <a:spcBef>
                <a:spcPts val="5499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45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432" name="Line 2"/>
          <p:cNvSpPr/>
          <p:nvPr/>
        </p:nvSpPr>
        <p:spPr>
          <a:xfrm>
            <a:off x="316080" y="2438280"/>
            <a:ext cx="1238400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1117440" y="2273040"/>
            <a:ext cx="10769760" cy="6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Click to edit the outline text format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1" marL="41040" indent="-41040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econd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2" marL="41040" indent="-41040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Third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3" marL="41040" indent="-41040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Four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4" marL="41040" indent="-41040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Fif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5" marL="41040" indent="-41040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ix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6" marL="41040" indent="-41040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even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grpSp>
        <p:nvGrpSpPr>
          <p:cNvPr id="43" name="Group 5"/>
          <p:cNvGrpSpPr/>
          <p:nvPr/>
        </p:nvGrpSpPr>
        <p:grpSpPr>
          <a:xfrm>
            <a:off x="1498680" y="2070000"/>
            <a:ext cx="10007280" cy="88560"/>
            <a:chOff x="1498680" y="2070000"/>
            <a:chExt cx="10007280" cy="88560"/>
          </a:xfrm>
        </p:grpSpPr>
        <p:pic>
          <p:nvPicPr>
            <p:cNvPr id="44" name="Picture 2" descr=""/>
            <p:cNvPicPr/>
            <p:nvPr/>
          </p:nvPicPr>
          <p:blipFill>
            <a:blip r:embed="rId3"/>
            <a:stretch/>
          </p:blipFill>
          <p:spPr>
            <a:xfrm>
              <a:off x="1498680" y="2113560"/>
              <a:ext cx="4863960" cy="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3" descr=""/>
            <p:cNvPicPr/>
            <p:nvPr/>
          </p:nvPicPr>
          <p:blipFill>
            <a:blip r:embed="rId4"/>
            <a:stretch/>
          </p:blipFill>
          <p:spPr>
            <a:xfrm rot="10800000">
              <a:off x="6642000" y="2113200"/>
              <a:ext cx="4863960" cy="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"/>
            <p:cNvPicPr/>
            <p:nvPr/>
          </p:nvPicPr>
          <p:blipFill>
            <a:blip r:embed="rId5"/>
            <a:stretch/>
          </p:blipFill>
          <p:spPr>
            <a:xfrm>
              <a:off x="6350040" y="2070000"/>
              <a:ext cx="270000" cy="8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0068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72720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2" marL="1096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465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4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5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6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86" name="Line 3"/>
          <p:cNvSpPr/>
          <p:nvPr/>
        </p:nvSpPr>
        <p:spPr>
          <a:xfrm>
            <a:off x="316080" y="2438280"/>
            <a:ext cx="1238400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46800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84960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2" marL="128088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71216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4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5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6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125" name="Line 3"/>
          <p:cNvSpPr/>
          <p:nvPr/>
        </p:nvSpPr>
        <p:spPr>
          <a:xfrm>
            <a:off x="291960" y="2438280"/>
            <a:ext cx="1242072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7080" y="914040"/>
            <a:ext cx="5131080" cy="408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117080" y="5041800"/>
            <a:ext cx="5131080" cy="381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Click to edit the outline text format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1" marL="257040" indent="-257040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econd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2" marL="257040" indent="-257040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Third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3" marL="257040" indent="-257040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Four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4" marL="257040" indent="-257040" algn="ctr">
              <a:lnSpc>
                <a:spcPct val="90000"/>
              </a:lnSpc>
              <a:spcBef>
                <a:spcPts val="1199"/>
              </a:spcBef>
              <a:buClr>
                <a:srgbClr val="a53521"/>
              </a:buClr>
              <a:buFont typeface="Bodoni SvtyTwo SC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Fif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5" marL="257040" indent="-257040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ix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  <a:p>
            <a:pPr lvl="6" marL="257040" indent="-257040" algn="ctr">
              <a:lnSpc>
                <a:spcPct val="90000"/>
              </a:lnSpc>
              <a:spcBef>
                <a:spcPts val="1199"/>
              </a:spcBef>
              <a:buClr>
                <a:srgbClr val="45433a"/>
              </a:buClr>
              <a:buFont typeface="Bodoni SvtyTwo SC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3521"/>
                </a:solidFill>
                <a:latin typeface="Bodoni SvtyTwo SC ITC TT-Book"/>
              </a:rPr>
              <a:t>Seventh Outline Level</a:t>
            </a:r>
            <a:endParaRPr b="0" lang="en-US" sz="36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  <p:grpSp>
        <p:nvGrpSpPr>
          <p:cNvPr id="164" name="Group 6"/>
          <p:cNvGrpSpPr/>
          <p:nvPr/>
        </p:nvGrpSpPr>
        <p:grpSpPr>
          <a:xfrm>
            <a:off x="1498680" y="4838760"/>
            <a:ext cx="4368240" cy="88560"/>
            <a:chOff x="1498680" y="4838760"/>
            <a:chExt cx="4368240" cy="88560"/>
          </a:xfrm>
        </p:grpSpPr>
        <p:pic>
          <p:nvPicPr>
            <p:cNvPr id="165" name="Picture 3" descr=""/>
            <p:cNvPicPr/>
            <p:nvPr/>
          </p:nvPicPr>
          <p:blipFill>
            <a:blip r:embed="rId3"/>
            <a:stretch/>
          </p:blipFill>
          <p:spPr>
            <a:xfrm>
              <a:off x="1498680" y="4882320"/>
              <a:ext cx="2031480" cy="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4" descr=""/>
            <p:cNvPicPr/>
            <p:nvPr/>
          </p:nvPicPr>
          <p:blipFill>
            <a:blip r:embed="rId4"/>
            <a:stretch/>
          </p:blipFill>
          <p:spPr>
            <a:xfrm rot="10800000">
              <a:off x="3835080" y="4882320"/>
              <a:ext cx="2031840" cy="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5" descr=""/>
            <p:cNvPicPr/>
            <p:nvPr/>
          </p:nvPicPr>
          <p:blipFill>
            <a:blip r:embed="rId5"/>
            <a:stretch/>
          </p:blipFill>
          <p:spPr>
            <a:xfrm>
              <a:off x="3530160" y="4838760"/>
              <a:ext cx="269640" cy="885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4388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0068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72720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2" marL="1096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465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4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5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6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316080" y="2438280"/>
            <a:ext cx="1238400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50680" y="2755440"/>
            <a:ext cx="1130292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6800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84960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2" marL="128088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712160" indent="-46800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4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5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6" marL="2143080" indent="-46764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45" name="Line 3"/>
          <p:cNvSpPr/>
          <p:nvPr/>
        </p:nvSpPr>
        <p:spPr>
          <a:xfrm>
            <a:off x="316080" y="2438280"/>
            <a:ext cx="1238400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0068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lick to edit the outline text forma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72720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con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2" marL="1096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hird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3" marL="1465200" indent="-40068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our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4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Fif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5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ix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6" marL="1833840" indent="-400320">
              <a:lnSpc>
                <a:spcPct val="110000"/>
              </a:lnSpc>
              <a:spcBef>
                <a:spcPts val="3300"/>
              </a:spcBef>
              <a:buClr>
                <a:srgbClr val="45433a"/>
              </a:buClr>
              <a:buSzPct val="9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eventh Outline Leve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284" name="Line 3"/>
          <p:cNvSpPr/>
          <p:nvPr/>
        </p:nvSpPr>
        <p:spPr>
          <a:xfrm>
            <a:off x="316080" y="2438280"/>
            <a:ext cx="12384000" cy="0"/>
          </a:xfrm>
          <a:prstGeom prst="line">
            <a:avLst/>
          </a:prstGeom>
          <a:ln w="12600">
            <a:solidFill>
              <a:srgbClr val="866c60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17440" y="2971440"/>
            <a:ext cx="1076976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cademy Engraved LET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17440" y="2463480"/>
            <a:ext cx="1076976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Daily Life in Ancient Egypt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3"/>
          <p:cNvGrpSpPr/>
          <p:nvPr/>
        </p:nvGrpSpPr>
        <p:grpSpPr>
          <a:xfrm>
            <a:off x="851040" y="2832120"/>
            <a:ext cx="5410080" cy="6184800"/>
            <a:chOff x="851040" y="2832120"/>
            <a:chExt cx="5410080" cy="6184800"/>
          </a:xfrm>
        </p:grpSpPr>
        <p:pic>
          <p:nvPicPr>
            <p:cNvPr id="573" name="Picture 1" descr=""/>
            <p:cNvPicPr/>
            <p:nvPr/>
          </p:nvPicPr>
          <p:blipFill>
            <a:blip r:embed="rId1"/>
            <a:srcRect l="26688" t="0" r="26756" b="0"/>
            <a:stretch/>
          </p:blipFill>
          <p:spPr>
            <a:xfrm>
              <a:off x="1143000" y="3098880"/>
              <a:ext cx="4851720" cy="557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2" descr=""/>
            <p:cNvPicPr/>
            <p:nvPr/>
          </p:nvPicPr>
          <p:blipFill>
            <a:blip r:embed="rId2"/>
            <a:stretch/>
          </p:blipFill>
          <p:spPr>
            <a:xfrm>
              <a:off x="851040" y="2832120"/>
              <a:ext cx="5410080" cy="618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44fe"/>
                </a:solidFill>
                <a:latin typeface="Academy Engraved LET"/>
              </a:rPr>
              <a:t>Peasants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74388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2712"/>
                </a:solidFill>
                <a:latin typeface="Hoefler Text"/>
              </a:rPr>
              <a:t>Largest class in social pyramid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2712"/>
                </a:solidFill>
                <a:latin typeface="Hoefler Text"/>
              </a:rPr>
              <a:t>Considered unskilled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Society depended on their work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2712"/>
                </a:solidFill>
                <a:latin typeface="Hoefler Text"/>
              </a:rPr>
              <a:t>Supplied food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2712"/>
                </a:solidFill>
                <a:latin typeface="Hoefler Text"/>
              </a:rPr>
              <a:t>Built monuments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Bell Ringer 10-15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117080" y="2273040"/>
            <a:ext cx="11176200" cy="687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53521"/>
                </a:solidFill>
                <a:latin typeface="Bodoni SvtyTwo SC ITC TT-Book"/>
              </a:rPr>
              <a:t>Why do you believe the Nile river was so important for Ancient Egypt?</a:t>
            </a:r>
            <a:endParaRPr b="0" lang="en-US" sz="72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TOC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117080" y="2273400"/>
            <a:ext cx="11099880" cy="702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521"/>
                </a:solidFill>
                <a:latin typeface="Bodoni SvtyTwo SC ITC TT-Book"/>
              </a:rPr>
              <a:t>PG 25: Monument</a:t>
            </a:r>
            <a:endParaRPr b="0" lang="en-US" sz="8000" spc="-1" strike="noStrike">
              <a:solidFill>
                <a:srgbClr val="a53521"/>
              </a:solidFill>
              <a:latin typeface="Bodoni SvtyTwo SC ITC TT-Book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521"/>
                </a:solidFill>
                <a:latin typeface="Bodoni SvtyTwo SC ITC TT-Book"/>
              </a:rPr>
              <a:t>Pg 26: Social Classes</a:t>
            </a:r>
            <a:endParaRPr b="0" lang="en-US" sz="8000" spc="-1" strike="noStrike">
              <a:solidFill>
                <a:srgbClr val="a53521"/>
              </a:solidFill>
              <a:latin typeface="Bodoni SvtyTwo SC ITC TT-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3"/>
          <p:cNvGrpSpPr/>
          <p:nvPr/>
        </p:nvGrpSpPr>
        <p:grpSpPr>
          <a:xfrm>
            <a:off x="2349360" y="2170080"/>
            <a:ext cx="9169560" cy="6883560"/>
            <a:chOff x="2349360" y="2170080"/>
            <a:chExt cx="9169560" cy="6883560"/>
          </a:xfrm>
        </p:grpSpPr>
        <p:pic>
          <p:nvPicPr>
            <p:cNvPr id="547" name="Picture 1" descr=""/>
            <p:cNvPicPr/>
            <p:nvPr/>
          </p:nvPicPr>
          <p:blipFill>
            <a:blip r:embed="rId1"/>
            <a:srcRect l="454" t="1962" r="454" b="1770"/>
            <a:stretch/>
          </p:blipFill>
          <p:spPr>
            <a:xfrm>
              <a:off x="2641320" y="2436840"/>
              <a:ext cx="8610840" cy="626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2" descr=""/>
            <p:cNvPicPr/>
            <p:nvPr/>
          </p:nvPicPr>
          <p:blipFill>
            <a:blip r:embed="rId2"/>
            <a:stretch/>
          </p:blipFill>
          <p:spPr>
            <a:xfrm>
              <a:off x="2349360" y="2170080"/>
              <a:ext cx="9169560" cy="688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17440" y="837720"/>
            <a:ext cx="107697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cademy Engraved LET"/>
              </a:rPr>
              <a:t>Social Pyramid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3"/>
          <p:cNvGrpSpPr/>
          <p:nvPr/>
        </p:nvGrpSpPr>
        <p:grpSpPr>
          <a:xfrm>
            <a:off x="6730920" y="2882880"/>
            <a:ext cx="5410080" cy="6184800"/>
            <a:chOff x="6730920" y="2882880"/>
            <a:chExt cx="5410080" cy="6184800"/>
          </a:xfrm>
        </p:grpSpPr>
        <p:pic>
          <p:nvPicPr>
            <p:cNvPr id="551" name="Picture 1" descr=""/>
            <p:cNvPicPr/>
            <p:nvPr/>
          </p:nvPicPr>
          <p:blipFill>
            <a:blip r:embed="rId1"/>
            <a:srcRect l="23301" t="0" r="23404" b="0"/>
            <a:stretch/>
          </p:blipFill>
          <p:spPr>
            <a:xfrm>
              <a:off x="7022880" y="3149640"/>
              <a:ext cx="4851720" cy="557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2" descr=""/>
            <p:cNvPicPr/>
            <p:nvPr/>
          </p:nvPicPr>
          <p:blipFill>
            <a:blip r:embed="rId2"/>
            <a:stretch/>
          </p:blipFill>
          <p:spPr>
            <a:xfrm>
              <a:off x="6730920" y="2882880"/>
              <a:ext cx="5410080" cy="618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50680" y="-360"/>
            <a:ext cx="11302920" cy="293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44fe"/>
                </a:solidFill>
                <a:latin typeface="Academy Engraved LET"/>
              </a:rPr>
              <a:t>Government officials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2712"/>
                </a:solidFill>
                <a:latin typeface="Hoefler Text"/>
              </a:rPr>
              <a:t>Highest class after pharaoh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Most inherited position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2712"/>
                </a:solidFill>
                <a:latin typeface="Hoefler Text"/>
              </a:rPr>
              <a:t>Officials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927000" indent="-48240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2712"/>
                </a:solidFill>
                <a:latin typeface="Hoefler Text"/>
              </a:rPr>
              <a:t>Viziers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927000" indent="-48240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2712"/>
                </a:solidFill>
                <a:latin typeface="Hoefler Text"/>
              </a:rPr>
              <a:t>Chief Treasurers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lvl="1" marL="927000" indent="-48240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2712"/>
                </a:solidFill>
                <a:latin typeface="Hoefler Text"/>
              </a:rPr>
              <a:t>General of armies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3"/>
          <p:cNvGrpSpPr/>
          <p:nvPr/>
        </p:nvGrpSpPr>
        <p:grpSpPr>
          <a:xfrm>
            <a:off x="6946920" y="1917720"/>
            <a:ext cx="5435640" cy="7238880"/>
            <a:chOff x="6946920" y="1917720"/>
            <a:chExt cx="5435640" cy="7238880"/>
          </a:xfrm>
        </p:grpSpPr>
        <p:pic>
          <p:nvPicPr>
            <p:cNvPr id="556" name="Picture 1" descr=""/>
            <p:cNvPicPr/>
            <p:nvPr/>
          </p:nvPicPr>
          <p:blipFill>
            <a:blip r:embed="rId1"/>
            <a:srcRect l="21086" t="0" r="21072" b="0"/>
            <a:stretch/>
          </p:blipFill>
          <p:spPr>
            <a:xfrm>
              <a:off x="7238880" y="2184480"/>
              <a:ext cx="4876920" cy="66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Picture 2" descr=""/>
            <p:cNvPicPr/>
            <p:nvPr/>
          </p:nvPicPr>
          <p:blipFill>
            <a:blip r:embed="rId2"/>
            <a:stretch/>
          </p:blipFill>
          <p:spPr>
            <a:xfrm>
              <a:off x="6946920" y="1917720"/>
              <a:ext cx="5435640" cy="723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44fe"/>
                </a:solidFill>
                <a:latin typeface="Academy Engraved LET"/>
              </a:rPr>
              <a:t>Priests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Class under Government Officials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2712"/>
                </a:solidFill>
                <a:latin typeface="Hoefler Text"/>
              </a:rPr>
              <a:t>Powerful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2712"/>
                </a:solidFill>
                <a:latin typeface="Hoefler Text"/>
              </a:rPr>
              <a:t>Highly respected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2712"/>
                </a:solidFill>
                <a:latin typeface="Hoefler Text"/>
              </a:rPr>
              <a:t>Served under pharaoh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06080" y="1523520"/>
            <a:ext cx="12153960" cy="1148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90b00"/>
                </a:solidFill>
                <a:latin typeface="Hoefler Text"/>
              </a:rPr>
              <a:t>Advised pharaoh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90b00"/>
                </a:solidFill>
                <a:latin typeface="Hoefler Text"/>
              </a:rPr>
              <a:t>Oversaw all religious ceremonies 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Temple priests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Advice and healing Priests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Priestesses equal to male priests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Purification to enter sanctuary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0">
              <a:lnSpc>
                <a:spcPct val="11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1701360" y="3808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70c0"/>
                </a:solidFill>
                <a:latin typeface="Academy Engraved LET"/>
              </a:rPr>
              <a:t>duties of priests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3"/>
          <p:cNvGrpSpPr/>
          <p:nvPr/>
        </p:nvGrpSpPr>
        <p:grpSpPr>
          <a:xfrm>
            <a:off x="6946920" y="1917720"/>
            <a:ext cx="5435640" cy="7238880"/>
            <a:chOff x="6946920" y="1917720"/>
            <a:chExt cx="5435640" cy="7238880"/>
          </a:xfrm>
        </p:grpSpPr>
        <p:pic>
          <p:nvPicPr>
            <p:cNvPr id="563" name="Picture 1" descr=""/>
            <p:cNvPicPr/>
            <p:nvPr/>
          </p:nvPicPr>
          <p:blipFill>
            <a:blip r:embed="rId1"/>
            <a:srcRect l="42066" t="4626" r="6027" b="4626"/>
            <a:stretch/>
          </p:blipFill>
          <p:spPr>
            <a:xfrm>
              <a:off x="7238880" y="2184480"/>
              <a:ext cx="4876920" cy="662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2" descr=""/>
            <p:cNvPicPr/>
            <p:nvPr/>
          </p:nvPicPr>
          <p:blipFill>
            <a:blip r:embed="rId2"/>
            <a:stretch/>
          </p:blipFill>
          <p:spPr>
            <a:xfrm>
              <a:off x="6946920" y="1917720"/>
              <a:ext cx="5435640" cy="723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44fe"/>
                </a:solidFill>
                <a:latin typeface="Academy Engraved LET"/>
              </a:rPr>
              <a:t>Scribes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Under the Government Officials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2712"/>
                </a:solidFill>
                <a:latin typeface="Hoefler Text"/>
              </a:rPr>
              <a:t>Highly respected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2712"/>
                </a:solidFill>
                <a:latin typeface="Hoefler Text"/>
              </a:rPr>
              <a:t>Well paid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2712"/>
                </a:solidFill>
                <a:latin typeface="Hoefler Text"/>
              </a:rPr>
              <a:t>Worked for Governmen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One way to move social classes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"/>
          <p:cNvGrpSpPr/>
          <p:nvPr/>
        </p:nvGrpSpPr>
        <p:grpSpPr>
          <a:xfrm>
            <a:off x="6730920" y="2882880"/>
            <a:ext cx="5410080" cy="6184800"/>
            <a:chOff x="6730920" y="2882880"/>
            <a:chExt cx="5410080" cy="6184800"/>
          </a:xfrm>
        </p:grpSpPr>
        <p:pic>
          <p:nvPicPr>
            <p:cNvPr id="568" name="Picture 1" descr=""/>
            <p:cNvPicPr/>
            <p:nvPr/>
          </p:nvPicPr>
          <p:blipFill>
            <a:blip r:embed="rId1"/>
            <a:srcRect l="0" t="0" r="0" b="11711"/>
            <a:stretch/>
          </p:blipFill>
          <p:spPr>
            <a:xfrm>
              <a:off x="7022880" y="3162240"/>
              <a:ext cx="4849920" cy="55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Picture 2" descr=""/>
            <p:cNvPicPr/>
            <p:nvPr/>
          </p:nvPicPr>
          <p:blipFill>
            <a:blip r:embed="rId2"/>
            <a:stretch/>
          </p:blipFill>
          <p:spPr>
            <a:xfrm>
              <a:off x="6730920" y="2882880"/>
              <a:ext cx="5410080" cy="618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50680" y="838080"/>
            <a:ext cx="1130292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44fe"/>
                </a:solidFill>
                <a:latin typeface="Academy Engraved LET"/>
              </a:rPr>
              <a:t>Artisans</a:t>
            </a:r>
            <a:endParaRPr b="0" lang="en-US" sz="6700" spc="-1" strike="noStrike">
              <a:solidFill>
                <a:srgbClr val="000000"/>
              </a:solidFill>
              <a:latin typeface="Academy Engraved LE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51040" y="2755440"/>
            <a:ext cx="54100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Below Scribes in Social Pyramid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2712"/>
                </a:solidFill>
                <a:latin typeface="Hoefler Text"/>
              </a:rPr>
              <a:t>Highly skilled laborers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2712"/>
                </a:solidFill>
                <a:latin typeface="Hoefler Text"/>
              </a:rPr>
              <a:t>Not well respected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2712"/>
                </a:solidFill>
                <a:latin typeface="Hoefler Text"/>
              </a:rPr>
              <a:t>Created beautiful art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  <a:p>
            <a:pPr marL="482760" indent="-482760">
              <a:lnSpc>
                <a:spcPct val="110000"/>
              </a:lnSpc>
              <a:spcBef>
                <a:spcPts val="33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5433a"/>
                </a:solidFill>
                <a:latin typeface="Hoefler Text"/>
              </a:rPr>
              <a:t>Most were men</a:t>
            </a:r>
            <a:endParaRPr b="0" lang="en-US" sz="3300" spc="-1" strike="noStrike">
              <a:solidFill>
                <a:srgbClr val="45433a"/>
              </a:solidFill>
              <a:latin typeface="Hoefler Tex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Tyler Daughtry</cp:lastModifiedBy>
  <dcterms:modified xsi:type="dcterms:W3CDTF">2013-10-15T12:13:13Z</dcterms:modified>
  <cp:revision>3</cp:revision>
  <dc:subject/>
  <dc:title>Daily Life in Ancient Egypt</dc:title>
</cp:coreProperties>
</file>